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3BA-AB22-4732-B721-8CB1C32C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291-1A98-4DF1-8958-DF56F122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940-7296-4C1C-A98C-3AAD0AA8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601-2CC9-462E-8F31-EA9296CA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D76-7C5A-4105-9358-F3732E5B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621-423F-447A-A06B-BE7CAC62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DC2-7C52-4F74-9BB7-C2E7DD89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BC4-E976-47F8-B737-9E0310D8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84D-8A58-477F-83A4-06D95091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D59-BF42-47CC-ADBE-98D19E4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C00-7316-4733-A384-452E2A1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E76-A7F0-447E-BE2A-D05311E4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A318-D942-498B-986D-D728BA6B9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3:39:16Z</dcterms:created>
  <dc:creator>Sergey</dc:creator>
  <dc:description/>
  <dc:language>en-US</dc:language>
  <cp:lastModifiedBy>Sergey</cp:lastModifiedBy>
  <dcterms:modified xsi:type="dcterms:W3CDTF">2013-03-17T13:45:42Z</dcterms:modified>
  <cp:revision>2</cp:revision>
  <dc:subject/>
  <dc:title>Слайд 1</dc:title>
</cp:coreProperties>
</file>